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2F148-9DE8-496E-BCDE-C1CBB10A2B4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1E09-B464-4514-8AF6-00B32B1EBFD1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AC97A-6A24-4D50-B95B-C1EAD1964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9E9D-1B91-4C5C-A2B0-0C1CB6101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1E745-A268-4EFC-8425-A66B86A73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59922-5BE7-4971-BDE5-05E2D228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D6CD-B50C-4505-9279-BFE6EE461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3B5C3-1D9F-4D15-84D9-C5EB8D54D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2F3CF-63B2-47D4-A9F3-FADEE13E2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502A-F98A-477E-935B-87EB1FA91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545A-7376-493A-9F84-27371EA70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3C76F-D028-4C46-AC78-CC36BAA64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6C2E-ED98-4963-A453-3D856918D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B7AF-8634-4975-B8E1-5AFEBCB8D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5DEDE-DCFE-4040-B034-E528FB482617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 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Funktioniert Privatsphäre auch im Interne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Funktioniert Privatsphäre</a:t>
            </a:r>
            <a:br>
              <a:rPr sz="4400"/>
            </a:b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auch im Intern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Lesen, denken, nochmal denken 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Füllt bei der Anmeldung nicht alle Daten aus, sondern nur die, die unbedingt notwendig sin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Ändert die Einstellungen eures Profils so, dass nicht jeder andere Benutzer alle Daten von euch sie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rüft, wem ihr eure Daten eigentlich geb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26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26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714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a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0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b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0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c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5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d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6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e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5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5f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2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26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mde und Freun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as bedeutet Freundschaft für euch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ie meisten „Freunde“ zu haben, ist nich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Cool ist, sich auf richtige Freunde verlassen zu könn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Nicknames sind erfunde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a.Lehmann@inter.net muss nicht Ina Lehmann sei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nline kann jeder vorgeben, jemand anderes zu sei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Zuerst prüfen, bevor ihr jemanden als Freund hinzufüg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 oder Behörde, die hil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reibt im Netz nur, was die Welt wirklich wissen darf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: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 Mitschüler, Lehrer, Eltern und sogar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91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92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8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sehen habe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as bedeutet für euch „Privatsphäre“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7-07T05:55:05Z</dcterms:modified>
  <cp:revision>135</cp:revision>
  <dc:subject/>
  <dc:title>Folie 1</dc:title>
</cp:coreProperties>
</file>